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A532-989B-4194-A8B4-90B8EFF65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8D709-A873-4F47-8607-FD0519905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F9355-9505-48E1-B785-7BFD7B96A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B6A1-0F6B-4C65-81DB-F8DF913B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91D8-ABC1-4225-9E6A-77E13D3D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2FCC-AD1C-4A5F-8170-7DF5D99B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A4AB-9556-4D30-94DB-446AB8C16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75FC-EE8A-4B59-8EF8-1CFC7ED1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E7B3-ECB3-4FF3-9178-5EB8A219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2DC7-C1AB-4432-A351-05300CDA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5B55-0DEF-4FEC-A978-13EF3F13F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03FE-CD32-448C-91A0-BEA6E020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1218F-1916-441A-B996-47BDE4A6DE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692360" y="692280"/>
            <a:ext cx="966600" cy="12398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627280" y="476280"/>
            <a:ext cx="3600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GoudyOlSt BT"/>
              </a:rPr>
              <a:t>Mode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GoudyOlSt BT"/>
              <a:ea typeface="GoudyOlSt B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539640" y="3789360"/>
            <a:ext cx="3313080" cy="2236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95280" y="2708280"/>
            <a:ext cx="36734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Model: a scale re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067280" y="2349000"/>
            <a:ext cx="504720" cy="1168200"/>
            <a:chOff x="4067280" y="2349000"/>
            <a:chExt cx="504720" cy="1168200"/>
          </a:xfrm>
        </p:grpSpPr>
        <p:sp>
          <p:nvSpPr>
            <p:cNvPr id="46" name=""/>
            <p:cNvSpPr/>
            <p:nvPr/>
          </p:nvSpPr>
          <p:spPr>
            <a:xfrm flipV="1">
              <a:off x="4067280" y="2349000"/>
              <a:ext cx="504720" cy="5842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067280" y="2933640"/>
              <a:ext cx="504720" cy="58356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4932360" y="198900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Re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859280" y="350028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Exten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588000" y="981000"/>
            <a:ext cx="2089440" cy="16779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6588000" y="2924280"/>
            <a:ext cx="2016360" cy="1968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859280" y="4869000"/>
            <a:ext cx="1295280" cy="11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3280" y="620640"/>
            <a:ext cx="3745080" cy="27082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84360" y="620640"/>
            <a:ext cx="3743280" cy="2673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3745080" cy="27543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84360" y="3429000"/>
            <a:ext cx="374472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3333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4425840"/>
            <a:ext cx="2987640" cy="2243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913120" y="4402080"/>
            <a:ext cx="3171600" cy="2266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179280" y="152280"/>
            <a:ext cx="8820360" cy="4160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6084720" y="4437000"/>
            <a:ext cx="302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7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22:28:15Z</dcterms:created>
  <dc:creator>micro</dc:creator>
  <dc:description/>
  <dc:language>en-US</dc:language>
  <cp:lastModifiedBy>micro</cp:lastModifiedBy>
  <dcterms:modified xsi:type="dcterms:W3CDTF">2009-11-30T22:59:08Z</dcterms:modified>
  <cp:revision>6</cp:revision>
  <dc:subject/>
  <dc:title>Diapositiva 1</dc:title>
</cp:coreProperties>
</file>